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376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6824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376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6824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856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7376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6824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7928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7376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6824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856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77200" y="6381720"/>
            <a:ext cx="3096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d4b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d4b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d4b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9280" y="6608520"/>
            <a:ext cx="2880000" cy="20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S Metadata Tools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5.03.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2320">
            <a:solidFill>
              <a:srgbClr val="2d4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22320">
            <a:solidFill>
              <a:srgbClr val="2d4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5684760" y="142920"/>
            <a:ext cx="2992680" cy="792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326440" y="6459480"/>
            <a:ext cx="349200" cy="325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372360" y="6608880"/>
            <a:ext cx="15112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: </a:t>
            </a:r>
            <a:fld id="{A89F8DC1-8F24-4287-9F44-CD89FA9919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3284640"/>
            <a:ext cx="3051360" cy="2441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3051000" cy="2441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867280" y="1197000"/>
            <a:ext cx="3051360" cy="2441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7337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39840"/>
            <a:ext cx="669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eutscher Wetter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2320">
            <a:solidFill>
              <a:srgbClr val="2d4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684760" y="142920"/>
            <a:ext cx="2992680" cy="79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059280" y="1773360"/>
            <a:ext cx="3051000" cy="2441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5364000" y="3500280"/>
            <a:ext cx="3051360" cy="2441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2d4b9b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2d4b9b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soft.org/xmllint.html" TargetMode="External"/><Relationship Id="rId2" Type="http://schemas.openxmlformats.org/officeDocument/2006/relationships/hyperlink" Target="http://www.inspire-geoportal.eu/INSPIREValidatorClient/validate.do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9497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WIS – Metadata Tools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68360" y="6288120"/>
            <a:ext cx="82072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us Heene, DW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markus.heene@dwd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F8FA5-62E7-4BA8-BD5B-47AC3A8BA42E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Validation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 Program with Xerces – hands-on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lint – Developer Version! – Stable release can’t handle iso19139 </a:t>
            </a:r>
            <a:r>
              <a:rPr b="0" lang="en-US" sz="1600" spc="-1" strike="noStrike" u="sng">
                <a:solidFill>
                  <a:srgbClr val="96a5cd"/>
                </a:solidFill>
                <a:uFillTx/>
                <a:latin typeface="Arial"/>
                <a:hlinkClick r:id="rId1"/>
              </a:rPr>
              <a:t>http://xmlsoft.org/xmlli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PIRE Validator Online – Sometimes not available </a:t>
            </a:r>
            <a:r>
              <a:rPr b="0" lang="en-US" sz="1600" spc="-1" strike="noStrike" u="sng">
                <a:solidFill>
                  <a:srgbClr val="96a5cd"/>
                </a:solidFill>
                <a:uFillTx/>
                <a:latin typeface="Arial"/>
                <a:hlinkClick r:id="rId2"/>
              </a:rPr>
              <a:t>http://www.inspire-geoportal.eu/INSPIREValidatorClient/validate.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04D42-34B5-40A4-A77B-C1097D50A7DA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Metadata Generation and Maintenance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late Approach for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l: XML::LibXML http://search.cpan.org/~shlomif/XML-LibXML-1.94/LibXML.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va: JDOM http://www.jdom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mod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01C8F-6E7D-48CD-A735-A8C7CFCE68FA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357360"/>
            <a:ext cx="88567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4b9b"/>
                </a:solidFill>
                <a:latin typeface="Arial"/>
              </a:rPr>
              <a:t>Q&amp;A</a:t>
            </a:r>
            <a:endParaRPr b="1" lang="en-US" sz="32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0CBE5-5F7B-4C1C-8C2E-C07B36478783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09:57:45Z</dcterms:created>
  <dc:creator>Administrator</dc:creator>
  <dc:description/>
  <dc:language>en-US</dc:language>
  <cp:lastModifiedBy>Markus Heene</cp:lastModifiedBy>
  <cp:lastPrinted>2006-12-13T10:14:45Z</cp:lastPrinted>
  <dcterms:modified xsi:type="dcterms:W3CDTF">2012-03-05T16:49:09Z</dcterms:modified>
  <cp:revision>261</cp:revision>
  <dc:subject/>
  <dc:title>Folie 1</dc:title>
</cp:coreProperties>
</file>